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6.pct" ContentType="image/x-pict"/>
  <Override PartName="/ppt/media/image11.jpeg" ContentType="image/jpeg"/>
  <Override PartName="/ppt/media/image3.pct" ContentType="image/x-pict"/>
  <Override PartName="/ppt/media/image10.pct" ContentType="image/x-pict"/>
  <Override PartName="/ppt/media/image22.png" ContentType="image/png"/>
  <Override PartName="/ppt/media/image5.pct" ContentType="image/x-pict"/>
  <Override PartName="/ppt/media/image4.pct" ContentType="image/x-pict"/>
  <Override PartName="/ppt/media/image23.pct" ContentType="image/x-pict"/>
  <Override PartName="/ppt/media/image21.png" ContentType="image/png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4.pct" ContentType="image/x-pict"/>
  <Override PartName="/ppt/media/image25.pct" ContentType="image/x-pict"/>
  <Override PartName="/ppt/media/image2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7C22-AF80-4BEF-8B2B-0CD600AE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313-DBF0-48F4-98CD-322688EE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298-D131-4944-B0D6-5C9076C6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B64-5A35-432F-9447-188EF225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1541-570A-4F57-985E-C6053BF5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6C4D-9E27-4184-8DD1-0E4D7906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1C6D-C785-47C8-B4D0-05C6D2E7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6841-2467-4A59-817E-01F45136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E669-3DBF-494E-A6DC-DB787B26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46FA-E8FE-466C-AE81-829C2486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087A-C3CB-4900-9C80-4DCFE20A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6FE-C554-4D38-81DF-3E66AE74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1874-75DC-4F33-A5E3-98715658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C16B-9FCF-4779-93A0-D3EFFABA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3A8C-9C53-4AF4-B323-11A52646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947E-D9D0-41A6-AC4A-C14FFB23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F663-CEE1-4968-A172-76E8DF79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9969-F029-4929-944C-5CB5D856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FBBF3-5938-4765-AE47-0989E837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D866-6A9A-4BD3-A3F7-E57A057A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3FC36-6D09-4BC8-ABF9-73524217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BD1C6-16B2-4BAF-AC83-94043462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E88-F600-4E99-854D-B8206190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DD6AA-6DD1-4CF7-A0C9-02957FAE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691DD-BD1F-4F54-96CE-F89A4F1C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998B1-35F3-4250-AE59-4F666F32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0344D-9CA5-4D46-8A25-A9FC0302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31107-26F8-44DD-92C6-D6E70B53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D4B6-0710-4610-93F1-EAB0B3DA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3211-0078-4E2D-8200-D1C90577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931-B9CD-4A31-B8E7-A689E569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056-7ECB-4DB8-BE71-8EC2DA30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E0E-5A93-474E-907F-8B190097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99A-AE42-4D79-9C08-68C70441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599-303F-4E58-A6BD-DDBA1664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460-9554-4E65-A727-A851E55E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C1C9-63AA-462C-A538-570B8803F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e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e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8F7B-5034-43B2-8525-87AAE01E963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4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e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e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10AD-D077-4EE7-BF52-9E0525D583F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image" Target="../media/image8.pct"/><Relationship Id="rId6" Type="http://schemas.openxmlformats.org/officeDocument/2006/relationships/image" Target="../media/image9.pct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Sand"/>
              </a:rPr>
              <a:t>Mystery of the</a:t>
            </a:r>
            <a:endParaRPr b="1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Sand"/>
              </a:rPr>
              <a:t>Matching Marks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97800" y="549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halkboard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034360" y="304920"/>
            <a:ext cx="676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e DO have a </a:t>
            </a:r>
            <a:r>
              <a:rPr b="0" lang="en-US" sz="4400" spc="-1" strike="noStrike">
                <a:solidFill>
                  <a:srgbClr val="800080"/>
                </a:solidFill>
                <a:latin typeface="Chalkboard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03560" y="121932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How did this difference happen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035000" cy="5867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201760" y="3352680"/>
            <a:ext cx="59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1.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One</a:t>
            </a: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split</a:t>
            </a: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 to make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two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,  </a:t>
            </a:r>
            <a:r>
              <a:rPr b="1" lang="en-US" sz="3200" spc="-1" strike="noStrike">
                <a:solidFill>
                  <a:srgbClr val="333399"/>
                </a:solidFill>
                <a:latin typeface="Chalkboard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25440" y="1932120"/>
            <a:ext cx="682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And, we have two </a:t>
            </a:r>
            <a:r>
              <a:rPr b="1" lang="en-US" sz="3600" spc="-1" strike="noStrike">
                <a:solidFill>
                  <a:srgbClr val="800080"/>
                </a:solidFill>
                <a:latin typeface="Chalkboard"/>
              </a:rPr>
              <a:t>hypotheses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(possible explanations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89880" y="5257800"/>
            <a:ext cx="76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Let’s try the </a:t>
            </a: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second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one (fusion).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How can we </a:t>
            </a:r>
            <a:r>
              <a:rPr b="1" lang="en-US" sz="3600" spc="-1" strike="noStrike">
                <a:solidFill>
                  <a:srgbClr val="800080"/>
                </a:solidFill>
                <a:latin typeface="Chalkboard"/>
              </a:rPr>
              <a:t>TEST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that hypothes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47040" y="4191120"/>
            <a:ext cx="67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2.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Two</a:t>
            </a: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fused</a:t>
            </a: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 (joined) to make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F0B-4BB9-44F7-841A-68A4326441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138040" y="712800"/>
            <a:ext cx="66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We could look for </a:t>
            </a: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evidence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of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fusion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in the </a:t>
            </a: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middle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of ou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#2 chromosom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17600" y="2666880"/>
            <a:ext cx="648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halkboard"/>
              </a:rPr>
              <a:t>But, what kind of </a:t>
            </a:r>
            <a:r>
              <a:rPr b="0" lang="en-US" sz="4000" spc="-1" strike="noStrike">
                <a:solidFill>
                  <a:srgbClr val="ff0000"/>
                </a:solidFill>
                <a:latin typeface="Chalkboard"/>
              </a:rPr>
              <a:t>evidenc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halkboard"/>
              </a:rPr>
              <a:t> can we look f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035000" cy="5867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682280" y="4343400"/>
            <a:ext cx="720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Well, it so happens that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ALL chromosomes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have special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tip ends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, called “</a:t>
            </a: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telomeres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”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772-07A6-4153-9B87-95A91DC62BF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193680" cy="31701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981080" y="1522440"/>
            <a:ext cx="1606680" cy="1286280"/>
          </a:xfrm>
          <a:prstGeom prst="wedgeRoundRectCallout">
            <a:avLst>
              <a:gd name="adj1" fmla="val -97421"/>
              <a:gd name="adj2" fmla="val 368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halkboard"/>
              </a:rPr>
              <a:t>Hea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Tel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72920" y="3176640"/>
            <a:ext cx="2063160" cy="496440"/>
          </a:xfrm>
          <a:prstGeom prst="wedgeRoundRectCallout">
            <a:avLst>
              <a:gd name="adj1" fmla="val -72259"/>
              <a:gd name="adj2" fmla="val -12543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entr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65240" y="4114800"/>
            <a:ext cx="1745280" cy="891000"/>
          </a:xfrm>
          <a:prstGeom prst="wedgeRoundRectCallout">
            <a:avLst>
              <a:gd name="adj1" fmla="val -97120"/>
              <a:gd name="adj2" fmla="val 759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halkboard"/>
              </a:rPr>
              <a:t>Tai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Tel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1960" y="717120"/>
            <a:ext cx="7415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 Bold"/>
              </a:rPr>
              <a:t>CHROMOSOME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5280" y="5486400"/>
            <a:ext cx="746784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tagggttagggttagggttagggttagggttagg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|||||||||||||||||||||||||||||||||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tcccaatcccaatcccaatcccaatcccaatcc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419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ll Chromosomes have </a:t>
            </a:r>
            <a:r>
              <a:rPr b="1" lang="en-US" sz="2800" spc="-1" strike="noStrike">
                <a:solidFill>
                  <a:srgbClr val="ff0000"/>
                </a:solidFill>
                <a:latin typeface="Chalkboard"/>
              </a:rPr>
              <a:t>telomeres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at 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</a:rPr>
              <a:t>en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(like shoelace aglets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4495680"/>
            <a:ext cx="426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halkboard"/>
              </a:rPr>
              <a:t>Telomeres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have a special DNA sequenc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2133360" cy="16030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 flipH="1">
            <a:off x="152280" y="27432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274320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638320" y="2743200"/>
            <a:ext cx="175284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BA6-7FD7-4778-8757-326385BA673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733920" y="114264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NA Sequence for 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</a:rPr>
              <a:t>Telomeres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tagggttagggttagg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|||||||||||||||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atcccaatcccaatccc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06520" y="1093680"/>
            <a:ext cx="1606680" cy="1286280"/>
          </a:xfrm>
          <a:prstGeom prst="wedgeRoundRectCallout">
            <a:avLst>
              <a:gd name="adj1" fmla="val -89222"/>
              <a:gd name="adj2" fmla="val 1804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ea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Tel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9560" y="3124080"/>
            <a:ext cx="2063160" cy="496440"/>
          </a:xfrm>
          <a:prstGeom prst="wedgeRoundRectCallout">
            <a:avLst>
              <a:gd name="adj1" fmla="val -60342"/>
              <a:gd name="adj2" fmla="val -173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entr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87440" y="4956120"/>
            <a:ext cx="1745280" cy="891000"/>
          </a:xfrm>
          <a:prstGeom prst="wedgeRoundRectCallout">
            <a:avLst>
              <a:gd name="adj1" fmla="val -89240"/>
              <a:gd name="adj2" fmla="val -5670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ai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Tel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2819520"/>
            <a:ext cx="5257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halkboard"/>
              </a:rPr>
              <a:t>NOT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halkboard"/>
              </a:rPr>
              <a:t>Tandem Repeats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in </a:t>
            </a:r>
            <a:r>
              <a:rPr b="0" lang="en-US" sz="2800" spc="-1" strike="noStrike">
                <a:solidFill>
                  <a:srgbClr val="ff0000"/>
                </a:solidFill>
                <a:latin typeface="Chalkboard"/>
              </a:rPr>
              <a:t>Telomeres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ttaggg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</a:rPr>
              <a:t>ttaggg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ttaggg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||||||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</a:rPr>
              <a:t>||||||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||||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aatccc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</a:rPr>
              <a:t>aatccc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aatccc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193680" cy="317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8160" y="328680"/>
            <a:ext cx="90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Did you notice the 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repeated sequence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: ttagg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243828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-360" y="24382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19480" y="5334120"/>
            <a:ext cx="56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</a:rPr>
              <a:t>ttaggg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” is repeat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800-1600 times in each Telom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A7E-8C13-47DA-9256-4CC87B40056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31640" y="762120"/>
            <a:ext cx="537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Here’s another view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chromosome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howing the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telome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untwisted, and their typica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DNA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1662120" cy="640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586320" y="3657600"/>
            <a:ext cx="4384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t also shows that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halkboard"/>
              </a:rPr>
              <a:t>upper (shorter) a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bove the centrome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s called the “</a:t>
            </a:r>
            <a:r>
              <a:rPr b="1" lang="en-US" sz="2800" spc="-1" strike="noStrike">
                <a:solidFill>
                  <a:srgbClr val="333399"/>
                </a:solidFill>
                <a:latin typeface="Chalkboard"/>
              </a:rPr>
              <a:t>p-arm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”,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halkboard"/>
              </a:rPr>
              <a:t>lower (longer) arm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alled the “</a:t>
            </a:r>
            <a:r>
              <a:rPr b="1" lang="en-US" sz="2800" spc="-1" strike="noStrike">
                <a:solidFill>
                  <a:srgbClr val="ff0000"/>
                </a:solidFill>
                <a:latin typeface="Chalkboard"/>
              </a:rPr>
              <a:t>q-arm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2057400" y="2971800"/>
            <a:ext cx="1905120" cy="1295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1828800" y="3733560"/>
            <a:ext cx="1752480" cy="198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0FE-689A-40C9-A082-F3A734ABF95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592360" y="1170000"/>
            <a:ext cx="396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Here ar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en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of th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upp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telomere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of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himp’s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short”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chromosome (left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4640" y="63817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hort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09720" y="63817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tr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437920" y="373392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71800" y="548640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0" y="4419720"/>
            <a:ext cx="399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nd its 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“</a:t>
            </a:r>
            <a:r>
              <a:rPr b="1" lang="en-US" sz="3200" spc="-1" strike="noStrike">
                <a:solidFill>
                  <a:srgbClr val="333399"/>
                </a:solidFill>
                <a:latin typeface="Chalkboard"/>
              </a:rPr>
              <a:t>extra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”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chromosome (rig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80280" y="152280"/>
            <a:ext cx="52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ELOMERE DNA CLOSE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248200" cy="58168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553080" y="609480"/>
            <a:ext cx="2248200" cy="580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9FA-BAB3-4CF7-B3B3-7DB3FE76962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676520" y="838080"/>
            <a:ext cx="563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hen we turn the “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extra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hromosome upside-dow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nd try to connect it to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shor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” chromosome, 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it only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FITS one way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(left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69800" y="3898800"/>
            <a:ext cx="43153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ey do NOT fi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hen one telomere i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twisted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180</a:t>
            </a:r>
            <a:r>
              <a:rPr b="0" lang="en-US" sz="3200" spc="-1" strike="noStrike" baseline="60000">
                <a:solidFill>
                  <a:srgbClr val="000000"/>
                </a:solidFill>
                <a:latin typeface="Chalkboard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(rig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523520" y="3429000"/>
            <a:ext cx="4496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9000" y="556272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31240" y="22860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NOTIC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260360" cy="62481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330120" y="345960"/>
            <a:ext cx="120492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D3C-06E5-4836-95BF-DDDD00CB9D0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52280" y="4724280"/>
            <a:ext cx="8839440" cy="17240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530280" y="228600"/>
            <a:ext cx="7871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URTHERMORE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hen we lay th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fusion area 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on its sid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e can see more clear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how the DNA seque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hanges at th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fusion poin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3341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59160" y="2895480"/>
            <a:ext cx="570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Reading the top strand only,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se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T T A G G G C C C T A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2DD-A176-488A-9FE3-4280A280B1F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90520" y="228600"/>
            <a:ext cx="835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AT’S WHAT YOU WILL BE LOOKING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hen you are searching the DNA for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Fusion Poin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 you will be loo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t only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one strand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of DN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(since the “lower” strand is the predicta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omplement of the “upper” strand)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Look for something like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4419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…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ttagggttagggttaggg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ccctaaccctaaccctaa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400" y="5181480"/>
            <a:ext cx="869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ad this like lines of text in a book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o you see where the </a:t>
            </a:r>
            <a:r>
              <a:rPr b="0" lang="en-US" sz="2800" spc="-1" strike="noStrike">
                <a:solidFill>
                  <a:srgbClr val="ff0000"/>
                </a:solidFill>
                <a:latin typeface="Chalkboard"/>
              </a:rPr>
              <a:t>multiple g’s (and no c’s)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END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nd </a:t>
            </a:r>
            <a:r>
              <a:rPr b="0" lang="en-US" sz="2800" spc="-1" strike="noStrike">
                <a:solidFill>
                  <a:srgbClr val="333399"/>
                </a:solidFill>
                <a:latin typeface="Chalkboard"/>
              </a:rPr>
              <a:t>multiple c’s (and no g’s)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BEG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278-588E-4D58-B5B6-7DFD20D6A66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8839440" cy="13557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234440" y="533520"/>
            <a:ext cx="635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What would this point be called?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(where multiple g’s stop, and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multiple c’s beg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1560" y="2209680"/>
            <a:ext cx="807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s would be the 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FUSION POI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Raise your hand when you see that poi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in this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actual DNA strand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be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25200" y="5791320"/>
            <a:ext cx="90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On </a:t>
            </a:r>
            <a:r>
              <a:rPr b="1" lang="en-US" sz="3600" spc="-1" strike="noStrike">
                <a:solidFill>
                  <a:srgbClr val="333399"/>
                </a:solidFill>
                <a:latin typeface="Chalkboard"/>
              </a:rPr>
              <a:t>which line</a:t>
            </a: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 does </a:t>
            </a:r>
            <a:r>
              <a:rPr b="1" lang="en-US" sz="3600" spc="-1" strike="noStrike">
                <a:solidFill>
                  <a:srgbClr val="333399"/>
                </a:solidFill>
                <a:latin typeface="Chalkboard"/>
              </a:rPr>
              <a:t>the change</a:t>
            </a: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 happ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9F4-9990-48A1-88A4-B8A6CBA44C5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Let’s look at our two sets of chromosomes again, side-by-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1480" y="3429000"/>
            <a:ext cx="7882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s time, Focus on their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DIFFERENCES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hat do you see in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chimp chromosome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(on the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at is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e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human chromosome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(on the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377440" y="990720"/>
            <a:ext cx="448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Maybe this will show i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more cle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8839440" cy="13381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441520" y="5257800"/>
            <a:ext cx="42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GOT THE PICTU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4343400"/>
            <a:ext cx="4267080" cy="457200"/>
          </a:xfrm>
          <a:prstGeom prst="wedgeRoundRectCallout">
            <a:avLst>
              <a:gd name="adj1" fmla="val -62796"/>
              <a:gd name="adj2" fmla="val -275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RE’S the FUSION POIN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446-4A03-4AF4-BDDA-E6A916FAE5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318280" y="0"/>
            <a:ext cx="376056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71040" y="533520"/>
            <a:ext cx="503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NOW…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WHERE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 should we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LOOK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for the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FUSION POINT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4320" y="2871720"/>
            <a:ext cx="48456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YES!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Right in th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MIDD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of our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chromosome #2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here the two match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himp chromosom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overlap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621280" y="1676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99440" y="44956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9D8-3C21-475B-AEC6-9BD3681B9D1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338800" y="-42840"/>
            <a:ext cx="376236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91520" y="990720"/>
            <a:ext cx="577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s would b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BELOW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CENTROMERE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 in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“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q-arm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” of the chromoso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in the region known 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2q13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”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hown in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6320" y="4572000"/>
            <a:ext cx="515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(Can you figure out whe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e number “2q13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omes from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267080" y="3276360"/>
            <a:ext cx="34290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99440" y="44956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621280" y="1676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CF5-275D-47A1-8084-79D0DCEF8BD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338800" y="0"/>
            <a:ext cx="376236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3680" y="990720"/>
            <a:ext cx="5542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(OPT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or “2q13”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2 = chromosome #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q = the q-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1 = region 1 of that 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3 = sub-part 3 of that re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943600" y="3352680"/>
            <a:ext cx="13716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99440" y="44956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621280" y="1676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794-42F2-4339-958C-5475337CD2D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09120" y="3581280"/>
            <a:ext cx="78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I have gone to an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online DNA database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and printed out the DNA in that reg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You could do this yourself, but, to save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time, I’ve done that for you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44280" y="649440"/>
            <a:ext cx="682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So, where can we </a:t>
            </a: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see</a:t>
            </a: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 the </a:t>
            </a: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DN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from this region of ou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#2 chromos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to </a:t>
            </a: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examine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0D9B-BD86-4CD4-9942-17C51C172F0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20920" y="304920"/>
            <a:ext cx="3884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This 2q13 reg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gives us 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Chalkboard"/>
              </a:rPr>
              <a:t>52 pages of DN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3200" y="2133720"/>
            <a:ext cx="391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s is what a pag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looks lik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4394160" cy="6400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204480" y="3429000"/>
            <a:ext cx="4493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On this page,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are 57 lin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each line with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60 bases (letters),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and that gives us…</a:t>
            </a:r>
            <a:br>
              <a:rPr sz="3200"/>
            </a:b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3,420 bases per pa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F69-080B-4AB7-9D6D-B6DBB4097E7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27160" y="304920"/>
            <a:ext cx="3731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If these 52 pag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ere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attached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end-to-end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ey would stret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bout 14 met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(16 yards) arou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your room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00960" y="3809880"/>
            <a:ext cx="499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If </a:t>
            </a:r>
            <a:r>
              <a:rPr b="1" lang="en-US" sz="3200" spc="-1" strike="noStrike">
                <a:solidFill>
                  <a:srgbClr val="800080"/>
                </a:solidFill>
                <a:latin typeface="Chalkboard"/>
              </a:rPr>
              <a:t>ALL the DNA</a:t>
            </a: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 from our</a:t>
            </a:r>
            <a:br>
              <a:rPr sz="3200"/>
            </a:br>
            <a:r>
              <a:rPr b="1" lang="en-US" sz="3200" spc="-1" strike="noStrike">
                <a:solidFill>
                  <a:srgbClr val="800080"/>
                </a:solidFill>
                <a:latin typeface="Chalkboard"/>
              </a:rPr>
              <a:t>ENTIRE #2 chromosome</a:t>
            </a:r>
            <a:br>
              <a:rPr sz="3200"/>
            </a:b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was printed out like this,</a:t>
            </a:r>
            <a:br>
              <a:rPr sz="3200"/>
            </a:b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it would stretch about</a:t>
            </a:r>
            <a:br>
              <a:rPr sz="3200"/>
            </a:b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16 km (10 miles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AA1-145F-4CF9-B457-D58FC8184D0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006200" y="304920"/>
            <a:ext cx="25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By the wa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6720" y="941400"/>
            <a:ext cx="818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Each number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on the left edge equals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of th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first base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(lett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on that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02640" y="4572000"/>
            <a:ext cx="622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And, a space has been inser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after every 10th base (letter)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to make counting eas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 rot="10800000">
          <a:off x="304920" y="2742480"/>
          <a:ext cx="10287000" cy="11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304920" y="2742480"/>
                    <a:ext cx="1028700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 flipH="1">
            <a:off x="609480" y="1447920"/>
            <a:ext cx="9907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2133720" y="3885840"/>
            <a:ext cx="13716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3504960" y="3885840"/>
            <a:ext cx="759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657600" y="3885840"/>
            <a:ext cx="1143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E2A-E5B4-4F34-8FEE-21D6CFDD950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54240" y="228600"/>
            <a:ext cx="3995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You may no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en you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arching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e “ttaggg”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s not perf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n occasional “c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lips in here and the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nd you will se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minor “glitch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63400" y="48769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halkboard"/>
              </a:rPr>
              <a:t>If you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halkboard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Chalkboard"/>
              </a:rPr>
              <a:t>MUTATIONS</a:t>
            </a:r>
            <a:r>
              <a:rPr b="0" lang="en-US" sz="2800" spc="-1" strike="noStrike">
                <a:solidFill>
                  <a:srgbClr val="333399"/>
                </a:solidFill>
                <a:latin typeface="Chalkboard"/>
              </a:rPr>
              <a:t>,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halkboard"/>
              </a:rPr>
              <a:t>you would be r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720-A766-460C-9FB4-15D4589E927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14200" y="228600"/>
            <a:ext cx="426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NOW, it’s YOUR turn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You get to SEAR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those 52 pa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05920" y="2590920"/>
            <a:ext cx="44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Are you ready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65920" y="3429000"/>
            <a:ext cx="482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Just kidding!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Actually, you will form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teams of 3-4, and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halkboard"/>
              </a:rPr>
              <a:t>each team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 gets th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halkboard"/>
              </a:rPr>
              <a:t>same 4 pages (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from the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 “2q13” reg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418-2979-4EF2-A902-521EA04D3E5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28600" y="73080"/>
            <a:ext cx="6626160" cy="6784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063960" y="228600"/>
            <a:ext cx="577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How are they </a:t>
            </a:r>
            <a:r>
              <a:rPr b="0" lang="en-US" sz="4000" spc="-1" strike="noStrike">
                <a:solidFill>
                  <a:srgbClr val="ff0000"/>
                </a:solidFill>
                <a:latin typeface="Chalkboard"/>
              </a:rPr>
              <a:t>different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5A5-20EC-43EF-8DFA-CB2DA4C4D39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223720" y="1828800"/>
            <a:ext cx="434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Each person looks for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that “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Fusion Area</a:t>
            </a: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” on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a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different</a:t>
            </a: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82920" y="3505320"/>
            <a:ext cx="47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When one of you finds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it,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show your partners</a:t>
            </a: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000" y="4979880"/>
            <a:ext cx="862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halkboard"/>
              </a:rPr>
              <a:t>Discuss your discovery</a:t>
            </a: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 with your partner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and </a:t>
            </a:r>
            <a:r>
              <a:rPr b="1" lang="en-US" sz="3200" spc="-1" strike="noStrike">
                <a:solidFill>
                  <a:srgbClr val="800080"/>
                </a:solidFill>
                <a:latin typeface="Chalkboard"/>
              </a:rPr>
              <a:t>answer the questions</a:t>
            </a: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on your “</a:t>
            </a:r>
            <a:r>
              <a:rPr b="1" lang="en-US" sz="3200" spc="-1" strike="noStrike">
                <a:solidFill>
                  <a:srgbClr val="800080"/>
                </a:solidFill>
                <a:latin typeface="Chalkboard"/>
              </a:rPr>
              <a:t>SEARCH</a:t>
            </a: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” work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3600" y="165240"/>
            <a:ext cx="424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One of those 4 page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should have the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“</a:t>
            </a:r>
            <a:r>
              <a:rPr b="1" lang="en-US" sz="3200" spc="-1" strike="noStrike">
                <a:solidFill>
                  <a:srgbClr val="333399"/>
                </a:solidFill>
                <a:latin typeface="Chalkboard"/>
              </a:rPr>
              <a:t>Fusion Area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311-5E2E-4A1F-BC96-652F68F8FB6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366640" y="228600"/>
            <a:ext cx="6439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RE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halkboard"/>
              </a:rPr>
              <a:t>PROBLEM</a:t>
            </a:r>
            <a:r>
              <a:rPr b="0" lang="en-US" sz="2400" spc="-1" strike="noStrike">
                <a:solidFill>
                  <a:srgbClr val="800080"/>
                </a:solidFill>
                <a:latin typeface="Chalkboard"/>
              </a:rPr>
              <a:t>: How did our #2 chromosome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halkboard"/>
              </a:rPr>
              <a:t>come to look identical to two chromosomes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halkboard"/>
              </a:rPr>
              <a:t>in chimpanze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886200"/>
            <a:ext cx="540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halkboard"/>
              </a:rPr>
              <a:t>TEST</a:t>
            </a:r>
            <a:r>
              <a:rPr b="0" lang="en-US" sz="2400" spc="-1" strike="noStrike">
                <a:solidFill>
                  <a:srgbClr val="009999"/>
                </a:solidFill>
                <a:latin typeface="Chalkboard"/>
              </a:rPr>
              <a:t>: Look for </a:t>
            </a:r>
            <a:r>
              <a:rPr b="1" lang="en-US" sz="2400" spc="-1" strike="noStrike">
                <a:solidFill>
                  <a:srgbClr val="009999"/>
                </a:solidFill>
                <a:latin typeface="Chalkboard"/>
              </a:rPr>
              <a:t>fusion</a:t>
            </a:r>
            <a:r>
              <a:rPr b="0" lang="en-US" sz="2400" spc="-1" strike="noStrike">
                <a:solidFill>
                  <a:srgbClr val="009999"/>
                </a:solidFill>
                <a:latin typeface="Chalkboard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Chalkboard"/>
              </a:rPr>
              <a:t>evidence</a:t>
            </a:r>
            <a:br>
              <a:rPr sz="2400"/>
            </a:br>
            <a:r>
              <a:rPr b="0" lang="en-US" sz="2400" spc="-1" strike="noStrike">
                <a:solidFill>
                  <a:srgbClr val="009999"/>
                </a:solidFill>
                <a:latin typeface="Chalkboard"/>
              </a:rPr>
              <a:t>in the form of </a:t>
            </a:r>
            <a:r>
              <a:rPr b="1" lang="en-US" sz="2400" spc="-1" strike="noStrike">
                <a:solidFill>
                  <a:srgbClr val="009999"/>
                </a:solidFill>
                <a:latin typeface="Chalkboard"/>
              </a:rPr>
              <a:t>telomere DNA</a:t>
            </a:r>
            <a:br>
              <a:rPr sz="2400"/>
            </a:br>
            <a:r>
              <a:rPr b="0" lang="en-US" sz="2400" spc="-1" strike="noStrike">
                <a:solidFill>
                  <a:srgbClr val="009999"/>
                </a:solidFill>
                <a:latin typeface="Chalkboard"/>
              </a:rPr>
              <a:t>in the </a:t>
            </a:r>
            <a:r>
              <a:rPr b="1" lang="en-US" sz="2400" spc="-1" strike="noStrike">
                <a:solidFill>
                  <a:srgbClr val="009999"/>
                </a:solidFill>
                <a:latin typeface="Chalkboard"/>
              </a:rPr>
              <a:t>middle</a:t>
            </a:r>
            <a:r>
              <a:rPr b="0" lang="en-US" sz="2400" spc="-1" strike="noStrike">
                <a:solidFill>
                  <a:srgbClr val="009999"/>
                </a:solidFill>
                <a:latin typeface="Chalkboard"/>
              </a:rPr>
              <a:t> of our #2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423160" y="5410080"/>
            <a:ext cx="636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PREDICTION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: If hypothesis is 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, 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hould find 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two telomere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ther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NOT true, should be NO telomeres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52680" y="2057400"/>
            <a:ext cx="533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halkboard"/>
              </a:rPr>
              <a:t>HYPOTHESIS</a:t>
            </a:r>
            <a:r>
              <a:rPr b="0" lang="en-US" sz="2400" spc="-1" strike="noStrike">
                <a:solidFill>
                  <a:srgbClr val="333399"/>
                </a:solidFill>
                <a:latin typeface="Chalkboard"/>
              </a:rPr>
              <a:t>: our #2 chromosome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halkboard"/>
              </a:rPr>
              <a:t> was formed by the </a:t>
            </a:r>
            <a:r>
              <a:rPr b="1" lang="en-US" sz="2400" spc="-1" strike="noStrike">
                <a:solidFill>
                  <a:srgbClr val="333399"/>
                </a:solidFill>
                <a:latin typeface="Chalkboard"/>
              </a:rPr>
              <a:t>fusion</a:t>
            </a:r>
            <a:r>
              <a:rPr b="0" lang="en-US" sz="2400" spc="-1" strike="noStrike">
                <a:solidFill>
                  <a:srgbClr val="333399"/>
                </a:solidFill>
                <a:latin typeface="Chalkboard"/>
              </a:rPr>
              <a:t> of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halkboard"/>
              </a:rPr>
              <a:t>two chromosomes</a:t>
            </a:r>
            <a:r>
              <a:rPr b="0" lang="en-US" sz="2400" spc="-1" strike="noStrike">
                <a:solidFill>
                  <a:srgbClr val="333399"/>
                </a:solidFill>
                <a:latin typeface="Chalkboard"/>
              </a:rPr>
              <a:t> in an </a:t>
            </a:r>
            <a:r>
              <a:rPr b="1" lang="en-US" sz="2400" spc="-1" strike="noStrike">
                <a:solidFill>
                  <a:srgbClr val="333399"/>
                </a:solidFill>
                <a:latin typeface="Chalkboard"/>
              </a:rPr>
              <a:t>ancestor</a:t>
            </a:r>
            <a:r>
              <a:rPr b="0" lang="en-US" sz="2400" spc="-1" strike="noStrike">
                <a:solidFill>
                  <a:srgbClr val="333399"/>
                </a:solidFill>
                <a:latin typeface="Chalkboard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halkboard"/>
              </a:rPr>
              <a:t>after</a:t>
            </a:r>
            <a:r>
              <a:rPr b="0" lang="en-US" sz="2400" spc="-1" strike="noStrike">
                <a:solidFill>
                  <a:srgbClr val="333399"/>
                </a:solidFill>
                <a:latin typeface="Chalkboard"/>
              </a:rPr>
              <a:t> chimps branched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920" y="304920"/>
            <a:ext cx="24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himp    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838080"/>
            <a:ext cx="1523880" cy="4267080"/>
            <a:chOff x="533520" y="838080"/>
            <a:chExt cx="1523880" cy="4267080"/>
          </a:xfrm>
        </p:grpSpPr>
        <p:sp>
          <p:nvSpPr>
            <p:cNvPr id="410" name=""/>
            <p:cNvSpPr/>
            <p:nvPr/>
          </p:nvSpPr>
          <p:spPr>
            <a:xfrm>
              <a:off x="533520" y="838080"/>
              <a:ext cx="685800" cy="231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1219320" y="857160"/>
              <a:ext cx="838080" cy="229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19320" y="3155040"/>
              <a:ext cx="25200" cy="195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19320" y="3130920"/>
              <a:ext cx="0" cy="675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1346040" y="2146320"/>
              <a:ext cx="253800" cy="675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1273680" y="3060720"/>
            <a:ext cx="244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&lt;--Common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     Ance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32080" y="214632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F91-67CE-4838-ACC9-CAF6861582C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32880" y="380880"/>
            <a:ext cx="7960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alkboard"/>
              </a:rPr>
              <a:t>GO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halkboard"/>
              </a:rPr>
              <a:t>SEARCH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halkboard"/>
              </a:rPr>
              <a:t>for the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Chalkboard"/>
              </a:rPr>
              <a:t>Tell-Tale Telomeres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52280" y="4724280"/>
            <a:ext cx="8839440" cy="13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F68-656E-4FA9-BF05-6322538CEC9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124080" y="45720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452600" y="3200400"/>
            <a:ext cx="578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udents get into teams now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nd pick up team folder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4 DNA pages per team,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1 worksheet per stud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25040" y="5535720"/>
            <a:ext cx="57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o to MMM2 for followup slide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o show after teams find fusion point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r to show optional DNA models of telome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CF7-DF9F-4F95-92DB-11E9878EA4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GOOD EYES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Chimp’s #2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shorter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than 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our #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Chimp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has an 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extra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unmatched 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7360" y="2895480"/>
            <a:ext cx="736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halkboard"/>
              </a:rPr>
              <a:t>What could have happen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halkboard"/>
              </a:rPr>
              <a:t>to cause those differen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80440" y="4724280"/>
            <a:ext cx="665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Let’s take a closer loo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at those chromosom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495360" cy="4927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8153280" y="2133720"/>
            <a:ext cx="287280" cy="2286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500560" y="2743200"/>
            <a:ext cx="498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NY IDEAS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might EXPLAIN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“missing” part of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himp’s #2 chromoso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ND the chimp’s “extra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hromoso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1295280"/>
            <a:ext cx="2209680" cy="609840"/>
          </a:xfrm>
          <a:prstGeom prst="wedgeRoundRectCallout">
            <a:avLst>
              <a:gd name="adj1" fmla="val -64870"/>
              <a:gd name="adj2" fmla="val 1291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issing”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1295280"/>
            <a:ext cx="2743200" cy="609840"/>
          </a:xfrm>
          <a:prstGeom prst="wedgeRoundRectCallout">
            <a:avLst>
              <a:gd name="adj1" fmla="val 61749"/>
              <a:gd name="adj2" fmla="val 221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tra” in chi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90C-E152-4BB8-8371-2C6E5CA68D9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495360" cy="49276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8153280" y="2133720"/>
            <a:ext cx="287280" cy="2286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797560" y="914400"/>
            <a:ext cx="410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Maybe the chimp’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“extra” chromos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as once part of i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hort #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85680" y="3441600"/>
            <a:ext cx="4030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Could the “extra”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chromosome match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 the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upper part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 of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our #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828800"/>
            <a:ext cx="12952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828440" y="2819520"/>
            <a:ext cx="1981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477120" y="3429000"/>
            <a:ext cx="167616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599840" y="2133720"/>
            <a:ext cx="1523880" cy="2666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12560" y="575460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LET’S TRY I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6F4-410F-4562-80EF-55BB86B672F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495360" cy="4927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287280" cy="2286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907000" y="304920"/>
            <a:ext cx="369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Nope!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They don’t se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to match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What else coul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we t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03000" y="3710160"/>
            <a:ext cx="510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halkboard"/>
              </a:rPr>
              <a:t>Turn the “</a:t>
            </a:r>
            <a:r>
              <a:rPr b="1" lang="en-US" sz="4000" spc="-1" strike="noStrike">
                <a:solidFill>
                  <a:srgbClr val="333399"/>
                </a:solidFill>
                <a:latin typeface="Chalkboard"/>
              </a:rPr>
              <a:t>extra</a:t>
            </a:r>
            <a:r>
              <a:rPr b="0" lang="en-US" sz="4000" spc="-1" strike="noStrike">
                <a:solidFill>
                  <a:srgbClr val="333399"/>
                </a:solidFill>
                <a:latin typeface="Chalkboard"/>
              </a:rPr>
              <a:t>” on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halkboard"/>
              </a:rPr>
              <a:t>upside down?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64960" y="5486400"/>
            <a:ext cx="376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halkboard"/>
              </a:rPr>
              <a:t>Let’s try it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11C-CA61-41FF-AA12-6DB4DA7F67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2362320" cy="19209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838080" y="590400"/>
            <a:ext cx="619200" cy="58676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 flipH="1">
            <a:off x="1122120" y="601560"/>
            <a:ext cx="231480" cy="28195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 flipH="1">
            <a:off x="8152920" y="1981080"/>
            <a:ext cx="212760" cy="27403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3429000" y="2362320"/>
            <a:ext cx="2971800" cy="549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"/>
          <a:stretch/>
        </p:blipFill>
        <p:spPr>
          <a:xfrm>
            <a:off x="1676520" y="1371600"/>
            <a:ext cx="227160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F35-E376-4FA0-A486-CAF93A3885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756440" y="228600"/>
            <a:ext cx="726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halkboard"/>
              </a:rPr>
              <a:t>WOW !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IT WORKED! They DO MATCH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23200" y="1752480"/>
            <a:ext cx="50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NOW, the next question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“How could this happen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035000" cy="586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828800" y="304812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Was there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ONE</a:t>
            </a: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 #2 in our</a:t>
            </a:r>
            <a:br>
              <a:rPr sz="3200"/>
            </a:b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common ancestor</a:t>
            </a: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, that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split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to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make TWO</a:t>
            </a: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 in chimps,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23640" y="4876920"/>
            <a:ext cx="787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Were there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TWO</a:t>
            </a: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 short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chromosomes in our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ancestor</a:t>
            </a: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fused</a:t>
            </a: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 (joined) to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make ONE </a:t>
            </a: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in huma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E87-FA3F-4866-AFD2-F8771E2F4BB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1:13:36Z</dcterms:created>
  <dc:creator>Larry Flammer</dc:creator>
  <dc:description/>
  <dc:language>en-US</dc:language>
  <cp:lastModifiedBy>Larry Flammer</cp:lastModifiedBy>
  <dcterms:modified xsi:type="dcterms:W3CDTF">2007-11-01T23:26:15Z</dcterms:modified>
  <cp:revision>6</cp:revision>
  <dc:subject/>
  <dc:title>Mystery of the</dc:title>
</cp:coreProperties>
</file>